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3BD9-0EED-48A9-B265-99AF96C8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6DE2-E323-49E3-89F2-C3EB98A0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EFB-AAC3-4B68-A7EE-D7D760D0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990-FF76-47CD-ADCD-B3EB16CC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4BE-FE46-43B6-89AC-597C0427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E95-C092-4D68-9054-0A53B727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2AD-67DA-4CAD-ADC5-D215DF41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5A7-C98E-4C7A-BD37-DCAD771B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6D7-F31E-4829-8E08-E16E941D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E65-5636-467C-8443-0BD8AEB5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58D-82DE-4698-AEF1-3F2CA3BA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7A0-1FEB-49BF-983E-33EBA0BB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3DFD-E545-4B0E-9E52-7DCAC0675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286000" y="1143000"/>
            <a:ext cx="4419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esson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WordArt 5" descr=""/>
          <p:cNvPicPr/>
          <p:nvPr/>
        </p:nvPicPr>
        <p:blipFill>
          <a:blip r:embed="rId1"/>
          <a:stretch/>
        </p:blipFill>
        <p:spPr>
          <a:xfrm>
            <a:off x="907920" y="2962440"/>
            <a:ext cx="70232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 [hai]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 [mi:]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d [bæd]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[æt]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          good at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lish [‘iŋgliʃ]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p [help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ain [ə’gein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4"/>
          <p:cNvSpPr txBox="1"/>
          <p:nvPr/>
        </p:nvSpPr>
        <p:spPr>
          <a:xfrm rot="2513400">
            <a:off x="6095520" y="99072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New words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WordArt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08400" y="-115920"/>
            <a:ext cx="3816360" cy="1073160"/>
          </a:xfrm>
          <a:prstGeom prst="rect">
            <a:avLst/>
          </a:prstGeom>
          <a:ln w="0">
            <a:noFill/>
          </a:ln>
        </p:spPr>
      </p:pic>
      <p:pic>
        <p:nvPicPr>
          <p:cNvPr id="46" name="WordArt 6" descr=""/>
          <p:cNvPicPr/>
          <p:nvPr/>
        </p:nvPicPr>
        <p:blipFill>
          <a:blip r:embed="rId3"/>
          <a:stretch/>
        </p:blipFill>
        <p:spPr>
          <a:xfrm>
            <a:off x="2840040" y="457200"/>
            <a:ext cx="2092320" cy="1139760"/>
          </a:xfrm>
          <a:prstGeom prst="rect">
            <a:avLst/>
          </a:prstGeom>
          <a:ln w="0">
            <a:noFill/>
          </a:ln>
        </p:spPr>
      </p:pic>
      <p:pic>
        <p:nvPicPr>
          <p:cNvPr id="47" name="WordArt 7" descr=""/>
          <p:cNvPicPr/>
          <p:nvPr/>
        </p:nvPicPr>
        <p:blipFill>
          <a:blip r:embed="rId4"/>
          <a:stretch/>
        </p:blipFill>
        <p:spPr>
          <a:xfrm>
            <a:off x="3139920" y="1006560"/>
            <a:ext cx="2936880" cy="1352520"/>
          </a:xfrm>
          <a:prstGeom prst="rect">
            <a:avLst/>
          </a:prstGeom>
          <a:ln w="0">
            <a:noFill/>
          </a:ln>
        </p:spPr>
      </p:pic>
      <p:pic>
        <p:nvPicPr>
          <p:cNvPr id="48" name="WordArt 8" descr=""/>
          <p:cNvPicPr/>
          <p:nvPr/>
        </p:nvPicPr>
        <p:blipFill>
          <a:blip r:embed="rId5"/>
          <a:stretch/>
        </p:blipFill>
        <p:spPr>
          <a:xfrm>
            <a:off x="6345360" y="2365200"/>
            <a:ext cx="2092320" cy="114012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9" descr=""/>
          <p:cNvPicPr/>
          <p:nvPr/>
        </p:nvPicPr>
        <p:blipFill>
          <a:blip r:embed="rId6"/>
          <a:stretch/>
        </p:blipFill>
        <p:spPr>
          <a:xfrm>
            <a:off x="3475080" y="2670120"/>
            <a:ext cx="5546520" cy="34988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0"/>
          <p:cNvSpPr txBox="1"/>
          <p:nvPr/>
        </p:nvSpPr>
        <p:spPr>
          <a:xfrm rot="518400">
            <a:off x="2590560" y="502920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帮助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5715000" y="91440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1447920" y="2666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3"/>
          <p:cNvSpPr txBox="1"/>
          <p:nvPr/>
        </p:nvSpPr>
        <p:spPr>
          <a:xfrm rot="1181400">
            <a:off x="5410080" y="2437920"/>
            <a:ext cx="838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（不）</a:t>
            </a:r>
            <a:endParaRPr b="0" lang="en-US" sz="1800" spc="1" strike="noStrike">
              <a:ln w="9360">
                <a:solidFill>
                  <a:srgbClr val="ff0066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2514600" y="380880"/>
            <a:ext cx="327672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重点句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1219320" y="3657600"/>
            <a:ext cx="5029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Nice to meet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Nice to see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Glad to meet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Glad to see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066680" y="1752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见到你很高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           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1676520" y="28954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Gl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" name="WordArt 9"/>
          <p:cNvSpPr txBox="1"/>
          <p:nvPr/>
        </p:nvSpPr>
        <p:spPr>
          <a:xfrm>
            <a:off x="1676520" y="2819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Ni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4114800" y="2819520"/>
            <a:ext cx="10666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me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" name="WordArt 11"/>
          <p:cNvSpPr txBox="1"/>
          <p:nvPr/>
        </p:nvSpPr>
        <p:spPr>
          <a:xfrm>
            <a:off x="4114800" y="289548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s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6400800" y="3733920"/>
            <a:ext cx="304920" cy="213336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7010280" y="4572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gain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WordArt 14"/>
          <p:cNvSpPr txBox="1"/>
          <p:nvPr/>
        </p:nvSpPr>
        <p:spPr>
          <a:xfrm>
            <a:off x="1905120" y="601992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次见到你很高兴。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WordArt 4" descr=""/>
          <p:cNvPicPr/>
          <p:nvPr/>
        </p:nvPicPr>
        <p:blipFill>
          <a:blip r:embed="rId1"/>
          <a:stretch/>
        </p:blipFill>
        <p:spPr>
          <a:xfrm>
            <a:off x="658800" y="420840"/>
            <a:ext cx="874080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I am Ya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Ya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I am good at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not good at Eng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I good at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you good at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Yang is good at Chin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g is not good at Chin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Yang good at Chin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1828800"/>
            <a:ext cx="5791320" cy="14018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某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e good at +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560" y="3733920"/>
            <a:ext cx="37335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某人擅长某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单词抄三默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汉译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Tina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擅长数学。（变成否定句，疑问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To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)Tim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擅长英语（同上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擅长语文（同上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good at Chin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、课文会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上作业家长签字。迟到的同学下课要晚走。符植要带笔记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词默写不对的一个抄五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3-11-28T05:24:33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